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E90-3EE0-4925-9D57-5D319DA9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BC8-0C38-44C4-9923-8A8AB92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879-BD95-4006-B8D5-5F4D656D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921-2870-4724-A7DB-0C5145F5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22B5-EE4F-486D-8590-62CB2CBA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D8BE-CC96-45C6-98D8-311F3D5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711E-0A52-4D86-9FC9-A9DD86DC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E75D-5ABD-4DDA-983F-A1C54963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7460-25B7-4AD5-B648-F46440A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52FC-7502-4780-A0F0-71B7F184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63D1-C6AC-494C-B357-62CED8C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FF0-DF26-49B2-A7FC-BD54C07D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AAA3-DDE0-43B2-9AC6-36763D9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731E-2CB8-44EB-B683-2F5AD6C6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3E70-8C39-44E0-A00B-D90669AA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279B-DB07-4D70-8FBF-932E5D8B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DC71-8AFB-4F61-B18B-292FE266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F5B-010F-457E-8E8F-20E94219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9D3-4AD7-4892-B046-F7D03103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E61-A377-490F-A873-DAC8CCA3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5A4-182A-4A11-A748-9799CAA8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0CA-7A9A-457F-8F75-5503ADC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751-8178-4C11-BF3B-5348668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26A-66CF-4AB0-94A9-EF54D0C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5C7D-FCF8-4300-AA86-907CCDDAC9EA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WordArt 13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EA00-F8B8-4EC1-9CAE-859B1C3691C9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106640" y="18986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0033"/>
                </a:solidFill>
                <a:latin typeface="Verdana"/>
              </a:rPr>
              <a:t>FIGURY OSIOWOSYMETRYCZNE </a:t>
            </a:r>
            <a:br>
              <a:rPr sz="3600"/>
            </a:br>
            <a:r>
              <a:rPr b="1" lang="pl-PL" sz="3600" spc="-1" strike="noStrike">
                <a:solidFill>
                  <a:srgbClr val="990033"/>
                </a:solidFill>
                <a:latin typeface="Verdana"/>
              </a:rPr>
              <a:t>I ŚRODKOWOSYMETRYCZ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c0066"/>
                </a:solidFill>
                <a:latin typeface="Arial"/>
              </a:rPr>
              <a:t>FIGURA OSIOWOSYMETRYCZ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8"/>
          <p:cNvSpPr/>
          <p:nvPr/>
        </p:nvSpPr>
        <p:spPr>
          <a:xfrm>
            <a:off x="1106640" y="1327320"/>
            <a:ext cx="7381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Jeżeli figura jest symetryczna sama do siebie względem pewnej prostej to figurę taką nazywamy </a:t>
            </a:r>
            <a:r>
              <a:rPr b="1" lang="pl-PL" sz="2400" spc="-1" strike="noStrike">
                <a:solidFill>
                  <a:srgbClr val="ff3300"/>
                </a:solidFill>
                <a:latin typeface="Arial"/>
              </a:rPr>
              <a:t>osiowosymetryczną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971640" y="261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42"/>
          <p:cNvGraphicFramePr/>
          <p:nvPr/>
        </p:nvGraphicFramePr>
        <p:xfrm>
          <a:off x="1106640" y="3429000"/>
          <a:ext cx="14778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3429000"/>
                    <a:ext cx="14778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43"/>
          <p:cNvGraphicFramePr/>
          <p:nvPr/>
        </p:nvGraphicFramePr>
        <p:xfrm>
          <a:off x="3132000" y="3429000"/>
          <a:ext cx="147816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429000"/>
                    <a:ext cx="147816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4"/>
          <p:cNvGraphicFramePr/>
          <p:nvPr/>
        </p:nvGraphicFramePr>
        <p:xfrm>
          <a:off x="6012000" y="2708280"/>
          <a:ext cx="2557440" cy="327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708280"/>
                    <a:ext cx="255744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45"/>
          <p:cNvGraphicFramePr/>
          <p:nvPr/>
        </p:nvGraphicFramePr>
        <p:xfrm>
          <a:off x="4932360" y="3473280"/>
          <a:ext cx="762120" cy="147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473280"/>
                    <a:ext cx="76212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Group 52"/>
          <p:cNvGrpSpPr/>
          <p:nvPr/>
        </p:nvGrpSpPr>
        <p:grpSpPr>
          <a:xfrm>
            <a:off x="2006640" y="5003280"/>
            <a:ext cx="5130720" cy="1642320"/>
            <a:chOff x="2006640" y="5003280"/>
            <a:chExt cx="5130720" cy="1642320"/>
          </a:xfrm>
        </p:grpSpPr>
        <p:sp>
          <p:nvSpPr>
            <p:cNvPr id="109" name="Rectangle 46"/>
            <p:cNvSpPr/>
            <p:nvPr/>
          </p:nvSpPr>
          <p:spPr>
            <a:xfrm>
              <a:off x="3357720" y="6308280"/>
              <a:ext cx="21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990033"/>
                  </a:solidFill>
                  <a:latin typeface="Arial"/>
                </a:rPr>
                <a:t>Osie symetr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8"/>
            <p:cNvSpPr/>
            <p:nvPr/>
          </p:nvSpPr>
          <p:spPr>
            <a:xfrm flipH="1" flipV="1">
              <a:off x="2006640" y="5003280"/>
              <a:ext cx="166536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9"/>
            <p:cNvSpPr/>
            <p:nvPr/>
          </p:nvSpPr>
          <p:spPr>
            <a:xfrm flipH="1" flipV="1">
              <a:off x="3897000" y="5724360"/>
              <a:ext cx="88920" cy="3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0"/>
            <p:cNvSpPr/>
            <p:nvPr/>
          </p:nvSpPr>
          <p:spPr>
            <a:xfrm flipV="1">
              <a:off x="4707000" y="5003640"/>
              <a:ext cx="539640" cy="10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V="1">
              <a:off x="5381640" y="5949720"/>
              <a:ext cx="175572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c0066"/>
                </a:solidFill>
                <a:latin typeface="Arial"/>
              </a:rPr>
              <a:t>FIGURA ŚRODKOWOSYMETRYCZ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106640" y="1327320"/>
            <a:ext cx="7381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Jeżeli figura jest symetryczna sama do siebie względem pewnego punktu to figurę taką nazywamy </a:t>
            </a:r>
            <a:r>
              <a:rPr b="1" lang="pl-PL" sz="2400" spc="-1" strike="noStrike">
                <a:solidFill>
                  <a:srgbClr val="ff3300"/>
                </a:solidFill>
                <a:latin typeface="Arial"/>
              </a:rPr>
              <a:t>środkowosymetryczną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971640" y="261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1106640" y="3429000"/>
          <a:ext cx="113652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3429000"/>
                    <a:ext cx="11365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2"/>
          <p:cNvGraphicFramePr/>
          <p:nvPr/>
        </p:nvGraphicFramePr>
        <p:xfrm>
          <a:off x="3267000" y="3429000"/>
          <a:ext cx="110808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3429000"/>
                    <a:ext cx="110808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3"/>
          <p:cNvGraphicFramePr/>
          <p:nvPr/>
        </p:nvGraphicFramePr>
        <p:xfrm>
          <a:off x="5111640" y="3429000"/>
          <a:ext cx="522360" cy="12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1640" y="3429000"/>
                    <a:ext cx="5223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4"/>
          <p:cNvGraphicFramePr/>
          <p:nvPr/>
        </p:nvGraphicFramePr>
        <p:xfrm>
          <a:off x="6642000" y="3429000"/>
          <a:ext cx="1136880" cy="113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42000" y="3429000"/>
                    <a:ext cx="11368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Group 25"/>
          <p:cNvGrpSpPr/>
          <p:nvPr/>
        </p:nvGrpSpPr>
        <p:grpSpPr>
          <a:xfrm>
            <a:off x="1736280" y="4059360"/>
            <a:ext cx="5401080" cy="2586240"/>
            <a:chOff x="1736280" y="4059360"/>
            <a:chExt cx="5401080" cy="2586240"/>
          </a:xfrm>
        </p:grpSpPr>
        <p:sp>
          <p:nvSpPr>
            <p:cNvPr id="128" name="Rectangle 16"/>
            <p:cNvSpPr/>
            <p:nvPr/>
          </p:nvSpPr>
          <p:spPr>
            <a:xfrm>
              <a:off x="3357720" y="6308280"/>
              <a:ext cx="21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990033"/>
                  </a:solidFill>
                  <a:latin typeface="Arial"/>
                </a:rPr>
                <a:t>środek symetr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 flipH="1" flipV="1">
              <a:off x="1736280" y="4059360"/>
              <a:ext cx="1979640" cy="20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 flipH="1" flipV="1">
              <a:off x="3807000" y="4059360"/>
              <a:ext cx="225360" cy="18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 flipV="1">
              <a:off x="4932360" y="4149360"/>
              <a:ext cx="449280" cy="17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 flipV="1">
              <a:off x="5292720" y="4103640"/>
              <a:ext cx="1844640" cy="18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c0066"/>
                </a:solidFill>
                <a:latin typeface="Arial"/>
              </a:rPr>
              <a:t>FIGURY SYMETRYCZ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106640" y="1175040"/>
            <a:ext cx="73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Jeżeli figura jest symetryczna sama do siebie względem pewnego punktu oraz względem pewnej prostej to figurę taką nazywamy </a:t>
            </a:r>
            <a:br>
              <a:rPr sz="2000"/>
            </a:br>
            <a:r>
              <a:rPr b="1" lang="pl-PL" sz="2400" spc="-1" strike="noStrike">
                <a:solidFill>
                  <a:srgbClr val="ff3300"/>
                </a:solidFill>
                <a:latin typeface="Arial"/>
              </a:rPr>
              <a:t>środkowosymetryczną i osiowosymetryczną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106640" y="30312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9"/>
          <p:cNvGraphicFramePr/>
          <p:nvPr/>
        </p:nvGraphicFramePr>
        <p:xfrm>
          <a:off x="2951280" y="3909960"/>
          <a:ext cx="5220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1280" y="3909960"/>
                    <a:ext cx="5220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20"/>
          <p:cNvGraphicFramePr/>
          <p:nvPr/>
        </p:nvGraphicFramePr>
        <p:xfrm>
          <a:off x="4257720" y="3841920"/>
          <a:ext cx="147780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7720" y="3841920"/>
                    <a:ext cx="147780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21"/>
          <p:cNvGraphicFramePr/>
          <p:nvPr/>
        </p:nvGraphicFramePr>
        <p:xfrm>
          <a:off x="6507000" y="3606840"/>
          <a:ext cx="1667160" cy="180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07000" y="3606840"/>
                    <a:ext cx="166716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798480" y="3417840"/>
          <a:ext cx="1838520" cy="212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8480" y="3417840"/>
                    <a:ext cx="183852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106640" y="1522800"/>
            <a:ext cx="706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Narysuj dwie figury osiowosymetry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2. Narysuj dwie figury środkowosymetry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3. Narysuj dwie figury zarówno osiowosymetryczne, jak</a:t>
            </a:r>
            <a:br>
              <a:rPr sz="2000"/>
            </a:b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 i środkowosymetry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UDT</cp:lastModifiedBy>
  <dcterms:modified xsi:type="dcterms:W3CDTF">2013-08-30T20:55:02Z</dcterms:modified>
  <cp:revision>122</cp:revision>
  <dc:subject/>
  <dc:title>Slajd 1</dc:title>
</cp:coreProperties>
</file>